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2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9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Lets Play Theme.wav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" fill="hold"/>
                                        <p:tgtEl>
                                          <p:spTgt spid="5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80"/>
          <p:cNvSpPr/>
          <p:nvPr/>
        </p:nvSpPr>
        <p:spPr>
          <a:xfrm>
            <a:off x="228600" y="47959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$3.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$1.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50 c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$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6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much does it cost to go to the poo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1" fill="hold"/>
                                        <p:tgtEl>
                                          <p:spTgt spid="6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" fill="hold"/>
                                        <p:tgtEl>
                                          <p:spTgt spid="6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7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4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1" fill="hold"/>
                                        <p:tgtEl>
                                          <p:spTgt spid="7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AutoShape 80"/>
          <p:cNvSpPr/>
          <p:nvPr/>
        </p:nvSpPr>
        <p:spPr>
          <a:xfrm>
            <a:off x="210960" y="587376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panic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15"/>
          <p:cNvSpPr/>
          <p:nvPr/>
        </p:nvSpPr>
        <p:spPr>
          <a:xfrm>
            <a:off x="773280" y="5891040"/>
            <a:ext cx="29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put you hand in a f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6"/>
          <p:cNvSpPr/>
          <p:nvPr/>
        </p:nvSpPr>
        <p:spPr>
          <a:xfrm>
            <a:off x="4952880" y="502920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wave at the life gu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17"/>
          <p:cNvSpPr/>
          <p:nvPr/>
        </p:nvSpPr>
        <p:spPr>
          <a:xfrm>
            <a:off x="4952880" y="6095880"/>
            <a:ext cx="32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panic even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5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8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en you are in trouble and you need help do you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1" fill="hold"/>
                                        <p:tgtEl>
                                          <p:spTgt spid="7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1" fill="hold"/>
                                        <p:tgtEl>
                                          <p:spTgt spid="7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7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2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 Box 3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8" name="Rectangle 5"/>
          <p:cNvSpPr/>
          <p:nvPr/>
        </p:nvSpPr>
        <p:spPr>
          <a:xfrm>
            <a:off x="235008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1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6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 Box 7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 Box 8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1" fill="hold"/>
                                        <p:tgtEl>
                                          <p:spTgt spid="7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75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200"/>
                            </p:stCondLst>
                            <p:childTnLst>
                              <p:par>
                                <p:cTn id="28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700"/>
                            </p:stCondLst>
                            <p:childTnLst>
                              <p:par>
                                <p:cTn id="2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7200"/>
                            </p:stCondLst>
                            <p:childTnLst>
                              <p:par>
                                <p:cTn id="2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4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1" dur="1" fill="hold"/>
                                        <p:tgtEl>
                                          <p:spTgt spid="8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AutoShape 80"/>
          <p:cNvSpPr/>
          <p:nvPr/>
        </p:nvSpPr>
        <p:spPr>
          <a:xfrm>
            <a:off x="4621320" y="47941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496800" y="4981680"/>
            <a:ext cx="393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ride between the fl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15"/>
          <p:cNvSpPr/>
          <p:nvPr/>
        </p:nvSpPr>
        <p:spPr>
          <a:xfrm>
            <a:off x="533520" y="6095880"/>
            <a:ext cx="30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out the 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16"/>
          <p:cNvSpPr/>
          <p:nvPr/>
        </p:nvSpPr>
        <p:spPr>
          <a:xfrm>
            <a:off x="4952880" y="5029200"/>
            <a:ext cx="32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ride out the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on the s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7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8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you are a surfer do you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5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6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" dur="1" fill="hold"/>
                                        <p:tgtEl>
                                          <p:spTgt spid="9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1" fill="hold"/>
                                        <p:tgtEl>
                                          <p:spTgt spid="9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7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4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7" dur="1" fill="hold"/>
                                        <p:tgtEl>
                                          <p:spTgt spid="9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AutoShape 80"/>
          <p:cNvSpPr/>
          <p:nvPr/>
        </p:nvSpPr>
        <p:spPr>
          <a:xfrm>
            <a:off x="4610160" y="594360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say no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15"/>
          <p:cNvSpPr/>
          <p:nvPr/>
        </p:nvSpPr>
        <p:spPr>
          <a:xfrm>
            <a:off x="533520" y="6095880"/>
            <a:ext cx="29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climb a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just 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17"/>
          <p:cNvSpPr/>
          <p:nvPr/>
        </p:nvSpPr>
        <p:spPr>
          <a:xfrm>
            <a:off x="5132520" y="603576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tell someone where you are go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2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25640" y="4390560"/>
            <a:ext cx="514440" cy="606600"/>
          </a:xfrm>
          <a:prstGeom prst="rect">
            <a:avLst/>
          </a:prstGeom>
          <a:ln w="0">
            <a:noFill/>
          </a:ln>
        </p:spPr>
      </p:pic>
      <p:sp>
        <p:nvSpPr>
          <p:cNvPr id="104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en you go to a river do you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0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51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6" dur="1" fill="hold"/>
                                        <p:tgtEl>
                                          <p:spTgt spid="10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2" dur="1" fill="hold"/>
                                        <p:tgtEl>
                                          <p:spTgt spid="10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Rectangle 51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3" dur="1" fill="hold"/>
                                        <p:tgtEl>
                                          <p:spTgt spid="10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k E. Dam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5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102" name="Text Box 6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2 - All rights Reserv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7"/>
            <p:cNvSpPr/>
            <p:nvPr/>
          </p:nvSpPr>
          <p:spPr>
            <a:xfrm>
              <a:off x="2895120" y="6461280"/>
              <a:ext cx="372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ygiantsbigblue@yahoo.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AutoShape 80"/>
          <p:cNvSpPr/>
          <p:nvPr/>
        </p:nvSpPr>
        <p:spPr>
          <a:xfrm>
            <a:off x="228600" y="481320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why n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if you w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29"/>
          <p:cNvSpPr/>
          <p:nvPr/>
        </p:nvSpPr>
        <p:spPr>
          <a:xfrm>
            <a:off x="6696000" y="220968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7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168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e you allowed to bring food to the pool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5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76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2" dur="1" fill="hold"/>
                                        <p:tgtEl>
                                          <p:spTgt spid="1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1" fill="hold"/>
                                        <p:tgtEl>
                                          <p:spTgt spid="1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75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Rectangle 4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9" dur="1" fill="hold"/>
                                        <p:tgtEl>
                                          <p:spTgt spid="1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AutoShape 80"/>
          <p:cNvSpPr/>
          <p:nvPr/>
        </p:nvSpPr>
        <p:spPr>
          <a:xfrm>
            <a:off x="246240" y="58737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give it a tr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15"/>
          <p:cNvSpPr/>
          <p:nvPr/>
        </p:nvSpPr>
        <p:spPr>
          <a:xfrm>
            <a:off x="533520" y="6095880"/>
            <a:ext cx="30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lert some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swim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kick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2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29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f you see a shark do you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0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1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1" fill="hold"/>
                                        <p:tgtEl>
                                          <p:spTgt spid="1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4" dur="1" fill="hold"/>
                                        <p:tgtEl>
                                          <p:spTgt spid="1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7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4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5" dur="1" fill="hold"/>
                                        <p:tgtEl>
                                          <p:spTgt spid="1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AutoShape 80"/>
          <p:cNvSpPr/>
          <p:nvPr/>
        </p:nvSpPr>
        <p:spPr>
          <a:xfrm>
            <a:off x="4621320" y="58737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pull it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Text Box 15"/>
          <p:cNvSpPr/>
          <p:nvPr/>
        </p:nvSpPr>
        <p:spPr>
          <a:xfrm>
            <a:off x="533520" y="6095880"/>
            <a:ext cx="30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turn it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16"/>
          <p:cNvSpPr/>
          <p:nvPr/>
        </p:nvSpPr>
        <p:spPr>
          <a:xfrm>
            <a:off x="4952880" y="5029200"/>
            <a:ext cx="34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do what you w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Text Box 17"/>
          <p:cNvSpPr/>
          <p:nvPr/>
        </p:nvSpPr>
        <p:spPr>
          <a:xfrm>
            <a:off x="4952880" y="6095880"/>
            <a:ext cx="37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find another b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Rectangle 29"/>
          <p:cNvSpPr/>
          <p:nvPr/>
        </p:nvSpPr>
        <p:spPr>
          <a:xfrm>
            <a:off x="6696000" y="15987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7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418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Text Box 76"/>
          <p:cNvSpPr/>
          <p:nvPr/>
        </p:nvSpPr>
        <p:spPr>
          <a:xfrm>
            <a:off x="0" y="31284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t the beach if you see this sign what to you d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5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26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27" name="" descr=""/>
          <p:cNvPicPr/>
          <p:nvPr/>
        </p:nvPicPr>
        <p:blipFill>
          <a:blip r:embed="rId4"/>
          <a:stretch/>
        </p:blipFill>
        <p:spPr>
          <a:xfrm>
            <a:off x="3754440" y="1635120"/>
            <a:ext cx="261792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1" fill="hold"/>
                                        <p:tgtEl>
                                          <p:spTgt spid="1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500"/>
                            </p:stCondLst>
                            <p:childTnLst>
                              <p:par>
                                <p:cTn id="45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0" dur="1" fill="hold"/>
                                        <p:tgtEl>
                                          <p:spTgt spid="14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7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Text Box 3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Text Box 4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0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31" name="Rectangle 6"/>
          <p:cNvSpPr/>
          <p:nvPr/>
        </p:nvSpPr>
        <p:spPr>
          <a:xfrm>
            <a:off x="224532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32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7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Text Box 8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Text Box 9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1" dur="1" fill="hold"/>
                                        <p:tgtEl>
                                          <p:spTgt spid="14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75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200"/>
                            </p:stCondLst>
                            <p:childTnLst>
                              <p:par>
                                <p:cTn id="496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8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700"/>
                            </p:stCondLst>
                            <p:childTnLst>
                              <p:par>
                                <p:cTn id="5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2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7200"/>
                            </p:stCondLst>
                            <p:childTnLst>
                              <p:par>
                                <p:cTn id="5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2" dur="1" fill="hold"/>
                                        <p:tgtEl>
                                          <p:spTgt spid="14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AutoShape 81"/>
          <p:cNvSpPr/>
          <p:nvPr/>
        </p:nvSpPr>
        <p:spPr>
          <a:xfrm>
            <a:off x="4621320" y="481320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don’t worry abou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jump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check your 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have lu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55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Text Box 76"/>
          <p:cNvSpPr/>
          <p:nvPr/>
        </p:nvSpPr>
        <p:spPr>
          <a:xfrm>
            <a:off x="733320" y="903240"/>
            <a:ext cx="51818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f you are a scuba diver what do you do before you go i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5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1" dur="1" fill="hold"/>
                                        <p:tgtEl>
                                          <p:spTgt spid="15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500"/>
                            </p:stCondLst>
                            <p:childTnLst>
                              <p:par>
                                <p:cTn id="52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7" dur="1" fill="hold"/>
                                        <p:tgtEl>
                                          <p:spTgt spid="15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750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Rectangle 4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8" dur="1" fill="hold"/>
                                        <p:tgtEl>
                                          <p:spTgt spid="16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AutoShape 80"/>
          <p:cNvSpPr/>
          <p:nvPr/>
        </p:nvSpPr>
        <p:spPr>
          <a:xfrm>
            <a:off x="212760" y="58737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sun c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float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 chic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5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67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very most important thing to bring to the beac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7" dur="1" fill="hold"/>
                                        <p:tgtEl>
                                          <p:spTgt spid="16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500"/>
                            </p:stCondLst>
                            <p:childTnLst>
                              <p:par>
                                <p:cTn id="56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3" dur="1" fill="hold"/>
                                        <p:tgtEl>
                                          <p:spTgt spid="16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750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35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05" name="Rectangle 13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1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9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2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5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8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3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Group 3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13" name="Rectangle 1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7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20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3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6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2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32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34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1" name="Rectangle 4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15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2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24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27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30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37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0" name="Rectangle 38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39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40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41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42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43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44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Group 45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8" name="Rectangle 46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47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4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49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50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51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52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5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63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7" name="Rectangle 6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65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66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67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68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6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70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71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55" name="Rectangle 72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73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74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75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76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77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78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7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63" name="Rectangle 8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8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8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8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8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8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50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Rectangle 4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4" dur="1" fill="hold"/>
                                        <p:tgtEl>
                                          <p:spTgt spid="17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AutoShape 80"/>
          <p:cNvSpPr/>
          <p:nvPr/>
        </p:nvSpPr>
        <p:spPr>
          <a:xfrm>
            <a:off x="4638600" y="587376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don’t worry abou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j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craw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use a st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80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o do you cheek how deep the river 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0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3" dur="1" fill="hold"/>
                                        <p:tgtEl>
                                          <p:spTgt spid="18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1" fill="hold"/>
                                        <p:tgtEl>
                                          <p:spTgt spid="18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75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Rectangle 4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0" dur="1" fill="hold"/>
                                        <p:tgtEl>
                                          <p:spTgt spid="18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AutoShape 80"/>
          <p:cNvSpPr/>
          <p:nvPr/>
        </p:nvSpPr>
        <p:spPr>
          <a:xfrm>
            <a:off x="228600" y="47959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Text Box 14"/>
          <p:cNvSpPr/>
          <p:nvPr/>
        </p:nvSpPr>
        <p:spPr>
          <a:xfrm>
            <a:off x="654120" y="4883040"/>
            <a:ext cx="393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throw a stick in the curr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jump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d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fall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5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2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you don’t know how fast the river is moving what do you d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3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9" dur="1" fill="hold"/>
                                        <p:tgtEl>
                                          <p:spTgt spid="19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5" dur="1" fill="hold"/>
                                        <p:tgtEl>
                                          <p:spTgt spid="19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750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Rectangle 4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6" dur="1" fill="hold"/>
                                        <p:tgtEl>
                                          <p:spTgt spid="19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AutoShape 80"/>
          <p:cNvSpPr/>
          <p:nvPr/>
        </p:nvSpPr>
        <p:spPr>
          <a:xfrm>
            <a:off x="4640400" y="47959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sl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cl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5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Text Box 76"/>
          <p:cNvSpPr/>
          <p:nvPr/>
        </p:nvSpPr>
        <p:spPr>
          <a:xfrm>
            <a:off x="685800" y="1203480"/>
            <a:ext cx="518148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is the word to finish this sentenc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LIP,SLOP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5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5" dur="1" fill="hold"/>
                                        <p:tgtEl>
                                          <p:spTgt spid="20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67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1" dur="1" fill="hold"/>
                                        <p:tgtEl>
                                          <p:spTgt spid="20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7500"/>
                            </p:stCondLst>
                            <p:childTnLst>
                              <p:par>
                                <p:cTn id="6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0" name="Lets Play Theme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61" name="Group 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062" name="Rectangle 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Rectangle 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Rectangle 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Rectangle 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Rectangle 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Rectangle 1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Rectangle 1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9" name="Group 12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70" name="Rectangle 13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Rectangle 14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Rectangle 15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Rectangle 16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Rectangle 17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Rectangle 18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Rectangle 19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7" name="Group 20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78" name="Rectangle 21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Rectangle 22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Rectangle 23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Rectangle 24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Rectangle 25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Rectangle 26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Rectangle 27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Rectangle 28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6" name="Group 2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087" name="Rectangle 3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Rectangle 3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Rectangle 3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Rectangle 3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Rectangle 3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Rectangle 3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Rectangle 3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4" name="Group 37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95" name="Rectangle 38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Rectangle 39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Rectangle 40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Rectangle 4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Rectangle 42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Rectangle 43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Rectangle 44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Rectangle 45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3" name="Group 4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104" name="Rectangle 47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Rectangle 48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Rectangle 49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Rectangle 50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Rectangle 51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Rectangle 52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Rectangle 53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1" name="Group 5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112" name="Rectangle 5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Rectangle 5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Rectangle 5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Rectangle 5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Rectangle 5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Rectangle 6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Rectangle 6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9" name="Group 62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120" name="Rectangle 63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Rectangle 64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Rectangle 65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Rectangle 66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Rectangle 67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Rectangle 68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Rectangle 69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7" name="Picture 70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2128" name="Text Box 71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2" dur="1" fill="hold"/>
                                        <p:tgtEl>
                                          <p:spTgt spid="20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0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0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000"/>
                            </p:stCondLst>
                            <p:childTnLst>
                              <p:par>
                                <p:cTn id="7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000"/>
                            </p:stCondLst>
                            <p:childTnLst>
                              <p:par>
                                <p:cTn id="7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0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3500"/>
                            </p:stCondLst>
                            <p:childTnLst>
                              <p:par>
                                <p:cTn id="7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4000"/>
                            </p:stCondLst>
                            <p:childTnLst>
                              <p:par>
                                <p:cTn id="7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4500"/>
                            </p:stCondLst>
                            <p:childTnLst>
                              <p:par>
                                <p:cTn id="7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0"/>
                            </p:stCondLst>
                            <p:childTnLst>
                              <p:par>
                                <p:cTn id="7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500"/>
                            </p:stCondLst>
                            <p:childTnLst>
                              <p:par>
                                <p:cTn id="74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49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0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2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3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4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5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6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7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8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9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0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1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2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33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34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35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36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37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38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39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40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41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42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43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44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45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46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47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0" y="3759120"/>
            <a:ext cx="9144000" cy="3129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81"/>
          <p:cNvSpPr/>
          <p:nvPr/>
        </p:nvSpPr>
        <p:spPr>
          <a:xfrm>
            <a:off x="4603680" y="479592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on the s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in the s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6"/>
          <p:cNvSpPr/>
          <p:nvPr/>
        </p:nvSpPr>
        <p:spPr>
          <a:xfrm>
            <a:off x="5373720" y="482436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between the fl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the 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6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75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re do you swim at the beac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3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80"/>
          <p:cNvSpPr/>
          <p:nvPr/>
        </p:nvSpPr>
        <p:spPr>
          <a:xfrm>
            <a:off x="4638600" y="587376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may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if its h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y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1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hould you dive in the shallow en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7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" fill="hold"/>
                                        <p:tgtEl>
                                          <p:spTgt spid="4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AutoShape 80"/>
          <p:cNvSpPr/>
          <p:nvPr/>
        </p:nvSpPr>
        <p:spPr>
          <a:xfrm>
            <a:off x="246240" y="47959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15"/>
          <p:cNvSpPr/>
          <p:nvPr/>
        </p:nvSpPr>
        <p:spPr>
          <a:xfrm>
            <a:off x="858960" y="5891040"/>
            <a:ext cx="296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when no one is loo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of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3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re you allowed to play  roug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1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" fill="hold"/>
                                        <p:tgtEl>
                                          <p:spTgt spid="5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7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de&amp;t</cp:lastModifiedBy>
  <dcterms:modified xsi:type="dcterms:W3CDTF">2009-11-16T03:25:09Z</dcterms:modified>
  <cp:revision>22</cp:revision>
  <dc:subject/>
  <dc:title>No Slide Title</dc:title>
</cp:coreProperties>
</file>